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1BC-4DB9-4207-90AC-99076755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674-08E0-497A-A233-BD83900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3E9-99E6-45E0-AC3A-701DED1E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4F7-FFBE-4966-BBAB-00D3328C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60B-6B87-4A3A-8770-081C9EC8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EEB-D122-45C6-9DAC-44AC79E2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A5C-1018-41E3-A704-3E6E6A50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9C7-303E-4A14-8ABB-3E0DCD37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A65-C62E-4BFF-8BB9-F97844D3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63E-A39E-41CB-909D-27879AE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E68-12E3-4A18-A45F-96223FA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589-1302-4519-8009-91462401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D686-5E88-422C-8797-F5EA303EE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earch.live.com/images/results.aspx?q=beaches%20%7C%20id:3DC0EFC650A10FE9F7D8EE26230682214229C235&amp;form=IGRE3&amp;p1=OneRow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d9d5"/>
                </a:solidFill>
                <a:latin typeface="Arial"/>
              </a:rPr>
              <a:t>Galve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d9d5"/>
                </a:solidFill>
                <a:latin typeface="Arial"/>
              </a:rPr>
              <a:t>By: Jordan La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467160"/>
            <a:ext cx="2643120" cy="339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flipH="1">
            <a:off x="6757920" y="3467160"/>
            <a:ext cx="2386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d9d5"/>
                </a:solidFill>
                <a:latin typeface="Arial"/>
              </a:rPr>
              <a:t>Be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veston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Turks &amp; Caicos: hotels and vill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d9d5"/>
                </a:solidFill>
                <a:latin typeface="Arial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imes ra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5600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1960" y="4910040"/>
            <a:ext cx="1702080" cy="1882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616040" cy="180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673600" y="3733920"/>
            <a:ext cx="3470400" cy="2752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d9d5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ch volley b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sculpture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31:05Z</dcterms:created>
  <dc:creator>766935</dc:creator>
  <dc:description/>
  <dc:language>en-US</dc:language>
  <cp:lastModifiedBy>766935</cp:lastModifiedBy>
  <dcterms:modified xsi:type="dcterms:W3CDTF">2009-01-23T16:58:06Z</dcterms:modified>
  <cp:revision>3</cp:revision>
  <dc:subject/>
  <dc:title>Galveston</dc:title>
</cp:coreProperties>
</file>